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019A-F411-49B0-8FCA-9132D8DE7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7538-3C35-494B-B8C7-2625DEBF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4201-5EED-4750-9B78-950E924BB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C4BC-7F01-4F93-B4BD-98FB96C36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4AE1-39E6-4EF8-8B12-DB6E46380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88BD-F043-4864-9585-27BE4366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DB9E-6A4C-4A1D-91C0-F21C874A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B575-24C7-4D8F-B304-70985EAA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99969-95CE-40F2-8904-A6383723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3488-9A2B-42B7-8ED3-34F4985B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6FEC-70FB-4B5B-9686-048772F9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DE7D-38E4-4328-994E-F5CA2B9E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0CB64-FA21-460C-B4E6-2628CAE0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592BA-4F74-475B-A39B-E19CAF52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5537-BD63-46FA-B6C9-FC4A6D4B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6F43-7539-4221-ACF5-D598260A4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DC64B-76F5-412D-B4A1-B9C92893C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C568-028F-46DA-B91A-0EE60C7A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D979-C562-4811-8E75-363F25F0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E928-D14B-4DB3-99AD-13D49AB5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06EF-E75B-41D7-A072-5A54D4C8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8479-6D87-4358-B89B-26878C0D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923E-3519-4E15-B6F8-1646219D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7CCF-6F2B-4366-B314-DFEA29C6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9DCE-2076-4C1A-AAAE-74FF4FC0F04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149C-4DB9-4E14-A6BC-0C7D63B6E49C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Judicial Branch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Federal Court Syste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Federal Court System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rticle III of the Constitution established a national Supreme Cour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t also gave the Congress the power to establish other inferior court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3124080" y="4572000"/>
            <a:ext cx="5639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10820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riminal and Civil Cas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United States has a dual court system.  This dual system is made up of state courts and federal cour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ost cases are decided by state courts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Arial Black"/>
              </a:rPr>
              <a:t>criminal cases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juries decide whether people have committed crime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Arial Black"/>
              </a:rPr>
              <a:t>Civil cases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are those where two parties disagree and one takes action against the other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ederal Court Jurisdic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Jurisdiction: The authority to decide a cas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federal courts have jurisdiction in certain specific areas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ases involving the Constitution (examples- cases involving freedom of speech or search and seizure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ases involving federal laws (examples- bank robbery, tax evasion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ederal Jurisdiction continued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dmiralty and maritime law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Disputes in which the U.S. government is involve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Disputes between stat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Disputes between citizens of different states (when the claim is greater than $50,000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Disputes between a foreign government and the U.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ases involving U.S. diplomat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ypes of Court Jurisdic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xclusive Jurisdiction-when only the federal courts may try, hear, and decide a cas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ncurrent Jurisdiction-when state and federal courts share responsibility for a cas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tinue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riginal Jurisdiction- the authority to hear a case for the first ti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ppellate Jurisdiction- the authority of a court to hear a case appealed from a lower cour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733560" y="301320"/>
            <a:ext cx="4724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ype of case/ Jurisdic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Bank Robber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hoplifting at the mal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ar thef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Factories pollute the river that serves as a border between two state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Your neighbor builds his fence on your yard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urde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37242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01:58:14Z</dcterms:created>
  <dc:creator>shroberts</dc:creator>
  <dc:description/>
  <dc:language>en-US</dc:language>
  <cp:lastModifiedBy>default</cp:lastModifiedBy>
  <dcterms:modified xsi:type="dcterms:W3CDTF">2009-01-23T12:50:41Z</dcterms:modified>
  <cp:revision>16</cp:revision>
  <dc:subject/>
  <dc:title>The Federal Court System</dc:title>
</cp:coreProperties>
</file>